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9A15-5A1E-4F07-9831-BBE26E6B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266C-58A1-4D35-B73D-CF3E9E7F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BFB-FD63-4F5E-979F-030DF251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8C47-370F-44FD-97A5-B63FED72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72A8-545E-4145-A1AA-3C1AA9F2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D068-14F4-4049-B895-1B504198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4794-753C-466F-AC06-14657643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05FE-8025-4111-85BC-6D8699FD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CB29-0862-4F34-8264-8F484788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948E-61BC-490C-A7C4-B473987F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6AE-F0BD-427C-A442-E368A514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1501-E18F-4898-93AE-F81D6708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1F81-097F-486E-86E8-EDED14CAEA0C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3.2 Examining Bio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900000" y="2000160"/>
            <a:ext cx="7128000" cy="40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oodlot Bio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Location: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Great Lake- St. Lawrence Re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Plants: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ntario plant- trill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rest Area- Firewood and maple sugar bu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Animals: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e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acco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oodlot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Animals: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elp themselves to farmers cr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oth victims of speeding traffic when habitat is near highways and ro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Climate: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ol and da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People: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arge human pop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undra Biore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80647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undra Biore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Location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: Arctic Can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Plants: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Very short growing sea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hru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ildflo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ic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grow in a very short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undra Biore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</a:rPr>
              <a:t>Animals:</a:t>
            </a:r>
            <a:r>
              <a:rPr b="1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arib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i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</a:rPr>
              <a:t>Climate:</a:t>
            </a:r>
            <a:r>
              <a:rPr b="1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ar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ong cold wi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undra Biore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People: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uman habitation is spa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uit- hunt caribou in summer and seals in the wi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etlands Biore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108000" y="1268280"/>
            <a:ext cx="8712000" cy="53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etlands Biore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000000"/>
                </a:solidFill>
                <a:latin typeface="Calibri"/>
              </a:rPr>
              <a:t>Location:</a:t>
            </a: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The Canadian Shiel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000000"/>
                </a:solidFill>
                <a:latin typeface="Calibri"/>
              </a:rPr>
              <a:t>Plants:</a:t>
            </a: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that thrive with wet roo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water plants- lill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rock not far beneath surf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water will not soak through roc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biodiverse- great variety of plants and anim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etlands Bio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Climate: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arm and W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Animals: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oose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ald eag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eav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oodlot Bio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8496000" cy="511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10:58Z</dcterms:created>
  <dc:creator>Jason</dc:creator>
  <dc:description/>
  <dc:language>en-US</dc:language>
  <cp:lastModifiedBy>Jason</cp:lastModifiedBy>
  <dcterms:modified xsi:type="dcterms:W3CDTF">2010-10-20T12:07:23Z</dcterms:modified>
  <cp:revision>6</cp:revision>
  <dc:subject/>
  <dc:title>3.2 Examining Bioregions</dc:title>
</cp:coreProperties>
</file>